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70DA-80E3-4CBF-ABFF-1E9C94DE0C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C306-19DD-46E5-A19B-DC099BD85F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C0B5-3227-46E0-B426-6B810AC2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932-B525-47BF-A665-45B85C48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B54-3EA4-4202-BE6A-2439BC78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64F-DFE8-4CA2-B5B6-C4D918B9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AAC3-FB4D-403D-833A-1487A97A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2E59-085D-455C-AEDB-ECD32F70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BB61-AC47-4CBE-966F-5B27CDE4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DEC0-C16C-4582-B3D7-50096B8C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41FB-7F3C-4259-8B7F-400B62CB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CE2F-913C-4CDC-B294-5C0D654D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AF1F-0E54-4E88-906A-726C5589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247-BA06-492D-B2FF-7F233BE7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ADA4-1B77-4937-9F72-776BA162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A511-4856-4C45-AF35-038E6226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5AB1-5D4F-468D-8F13-65871E59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6CD8-1ADE-49C6-8882-6CD28143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9D45-729C-4207-B71C-DABDC83D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027F-2024-4498-A573-CF66C8E8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D9182-7C2E-49F9-BAF8-83895CBB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E82E3-FCCA-41CC-BBE3-14A8FD3E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2678C-8BE8-4A07-9ED7-89BCBAB9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279C5-709E-412D-8891-8E186FCB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A99-E35E-4B30-9E77-57B9FEF0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531C-8185-4A68-8303-DD85FB80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E89E-300D-4663-A2E2-7A0B969F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12EAA-8E2C-4D8E-A1E3-6797D808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C8A7-C8F8-4751-A83B-1CE9BE14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80B11-EC85-41D7-A47F-050E0451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6AFA1-0DC2-42BA-8BC4-C6B0EB5D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6AD07-2121-47B7-8EF1-7BA0D34D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ACF1D-FE05-4212-9A97-ECCFAF3D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6AD52-D039-4F4D-80B8-35B4E294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8F48C-58E8-4541-B15E-C4628990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B35-CDFF-4016-90A1-FED95376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2F341-660D-4BD8-8BA4-D5FE31F3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509EE-935E-4605-9891-CD935138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2346-E57B-45D4-9545-1BAC1DEA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9CFEB-43FD-470B-8F7C-AAD5F416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DACE2-B060-40BA-84F4-6806B796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4371F-C4F2-4D41-BB63-381B4B06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1E07D-DE3E-45C3-9D18-4464F7F8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998B6-53CF-4BA7-8EE4-C4F7EF69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36016-98F2-4F08-933C-94BF3CF0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FD6DC-DD6F-4F8B-87FC-1A156A3C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5BF-562E-4139-9177-E455B6F7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D0891-FA6F-467F-9200-D41EA45A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D4B55-7A32-4754-8AC2-1B8C84ED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ADE22-E4DD-4212-86CE-96A1E422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54CA1-9454-4D78-BDFD-13C0FC2D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A8B43-6755-4FD9-99A9-D5711E7F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BCEB5-8BA6-428B-AD4D-E25B4DDE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1602C-E6B5-44E7-8BF1-89E269B3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4366D-8178-4AE2-9A41-6CF7BA8A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AFDD6-0A20-470A-9A39-E89E7788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7EF12-A503-4DAC-92E2-8B81154C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7F4-BAD1-442E-A0D7-921B5F76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AB532-31F5-4926-8D30-68C0E568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ACC38-70B3-4BE5-A5E0-9AC3E3B1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64833-88A9-4626-A7A6-694554F6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826CE-21C9-4A6D-91C9-1A809474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568FD-4895-45D6-8868-C657D8F2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9B153-EEE9-468A-B1FF-06532C01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6006D-1E18-45B1-8435-DB694E09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6724B-2704-40CC-834C-325EC6F1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23AE4-33BD-485A-85B0-CBF1855D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6BAC3-33DA-472D-BF63-133785C4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140-DAA4-4754-95C4-6CC2C5EC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7B410-21D8-4AB1-8308-10F6BCEC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B2BCE-98AC-48B6-8783-A5F32AF0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8CBD7-BB24-472C-A4EF-23B37CDB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17915-F2A2-4526-A81D-1EE734B1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6B656-1071-404D-8CFD-520F66F5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F95E5-A326-4FCA-A133-705E9852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58F83-9C83-4D52-A65E-140EE0BF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0135D-C99B-45FB-88A5-47D29CD3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18509-4A66-47B1-B118-7EE9F40E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C4CE4-20A8-484F-AA15-8D4F254A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BDA-560C-4F77-AEDC-B138BE9F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49A98-E586-4515-BAFB-B367BDB4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AD644-B86E-42BB-8C63-549131EE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2074C-4C46-4866-A9FB-336FA84D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4A3E0-7FE1-492D-AA67-FB35CF82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A3A64-5845-4458-BF0A-F07BB432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50CC8-D1B6-4FAD-8BC7-A18C765D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77B46-88F2-433E-9805-839EBC41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DCE23-6761-4145-B9F0-CE424EF0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C375A-5C06-49FC-A65A-1E7096A2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220B8-54BE-453A-A2D4-58F8BCFE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E27-9BC7-474E-B2B7-B9FD94EA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85ADC-8528-415D-8D0A-25E37378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17C64-851B-414D-89A9-02537FA1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5803A-B5BB-438E-966F-36D8267C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8DE4F-2D64-4104-B0DD-3DE98F95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F335A-D99D-4BF4-9EEB-ECE22955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26B69-0E1F-464C-83E9-7D7CED68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0D71F-2EC4-463D-912D-B09E6B4C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9693-6002-436A-AD0C-9A32BBB9D43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втор: Тлупова М.А., учитель информатики МОУ СОШ№"20 г.Нальчи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303E-8F74-4C19-A7C7-DE49D4DAD1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34A8-B2EA-4430-8420-D2009369DBC4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Times New Roman"/>
              </a:rPr>
              <a:t>Автор: Тлупова М.А., учитель информатики МОУ СОШ№"20 г.Нальчи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E427-4BB3-4B42-8AAD-1B6AC012F1F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920C-1F30-4659-A02F-FD13107911D4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Автор: Тлупова М.А., учитель информатики МОУ СОШ№"20 г.Нальчик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DE7A-8F36-4B0E-A0BA-5A2A08D9BB3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8AA0-76A9-4354-9E9E-066DAFEB1FFB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Автор: Тлупова М.А., учитель информатики МОУ СОШ№"20 г.Нальчик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C373-9122-4A46-9264-9CF6AD4BCC7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F611-49BE-4A0B-A133-5E97146CA7A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втор: Тлупова М.А., учитель информатики МОУ СОШ№"20 г.Нальчи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3C0D-87F6-44A2-938C-C560771246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6552-3CDE-448E-8266-5D4A83A3E56A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Автор: Тлупова М.А., учитель информатики МОУ СОШ№"20 г.Нальчик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A924-AD79-43EF-8529-39DC3324701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76CA-3AF6-46E9-9B95-9FD887A4EC8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втор: Тлупова М.А., учитель информатики МОУ СОШ№"20 г.Нальчи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58C7-CDB1-4A04-B85F-49945BA0AE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4060-45EE-49BB-A60A-FB64248987EA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Автор: Тлупова М.А., учитель информатики МОУ СОШ№"20 г.Нальчик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C381-7C92-46D6-B138-1958AAE8FA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536400" y="1182600"/>
            <a:ext cx="8388360" cy="2998800"/>
          </a:xfrm>
          <a:prstGeom prst="rect">
            <a:avLst/>
          </a:prstGeom>
          <a:ln w="0">
            <a:noFill/>
          </a:ln>
        </p:spPr>
      </p:pic>
      <p:sp>
        <p:nvSpPr>
          <p:cNvPr id="378" name="Нижний колонтитул 3"/>
          <p:cNvSpPr/>
          <p:nvPr/>
        </p:nvSpPr>
        <p:spPr>
          <a:xfrm>
            <a:off x="3357720" y="5643720"/>
            <a:ext cx="52149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8f0f4"/>
                </a:solidFill>
                <a:latin typeface="Arial Black"/>
              </a:rPr>
              <a:t>Автор: Тлупова М.А., учитель информатики МОУ СОШ№20 г.Нальч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071440"/>
            <a:ext cx="822960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усть задана система уравнен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+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=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+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=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того, чтобы решить данную систему надо вычислить главный и вспомогательный определители второго поряд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90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Δ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Δ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"/>
          <p:cNvPicPr/>
          <p:nvPr/>
        </p:nvPicPr>
        <p:blipFill>
          <a:blip r:embed="rId2"/>
          <a:stretch/>
        </p:blipFill>
        <p:spPr>
          <a:xfrm>
            <a:off x="428760" y="1500120"/>
            <a:ext cx="5881680" cy="104292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"/>
          <p:cNvPicPr/>
          <p:nvPr/>
        </p:nvPicPr>
        <p:blipFill>
          <a:blip r:embed="rId3"/>
          <a:stretch/>
        </p:blipFill>
        <p:spPr>
          <a:xfrm>
            <a:off x="1143000" y="3143160"/>
            <a:ext cx="5246640" cy="11145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"/>
          <p:cNvPicPr/>
          <p:nvPr/>
        </p:nvPicPr>
        <p:blipFill>
          <a:blip r:embed="rId4"/>
          <a:stretch/>
        </p:blipFill>
        <p:spPr>
          <a:xfrm>
            <a:off x="1214280" y="5000760"/>
            <a:ext cx="4977000" cy="928440"/>
          </a:xfrm>
          <a:prstGeom prst="rect">
            <a:avLst/>
          </a:prstGeom>
          <a:ln w="0">
            <a:noFill/>
          </a:ln>
        </p:spPr>
      </p:pic>
      <p:cxnSp>
        <p:nvCxnSpPr>
          <p:cNvPr id="391" name="Прямая со стрелкой 12"/>
          <p:cNvCxnSpPr/>
          <p:nvPr/>
        </p:nvCxnSpPr>
        <p:spPr>
          <a:xfrm>
            <a:off x="1856880" y="1856880"/>
            <a:ext cx="429480" cy="3582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2" name="Прямая со стрелкой 14"/>
          <p:cNvCxnSpPr/>
          <p:nvPr/>
        </p:nvCxnSpPr>
        <p:spPr>
          <a:xfrm flipH="1">
            <a:off x="1785240" y="1856160"/>
            <a:ext cx="500760" cy="3582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3" name="Прямая со стрелкой 15"/>
          <p:cNvCxnSpPr/>
          <p:nvPr/>
        </p:nvCxnSpPr>
        <p:spPr>
          <a:xfrm>
            <a:off x="1714680" y="3571920"/>
            <a:ext cx="429120" cy="357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4" name="Прямая со стрелкой 16"/>
          <p:cNvCxnSpPr/>
          <p:nvPr/>
        </p:nvCxnSpPr>
        <p:spPr>
          <a:xfrm flipH="1">
            <a:off x="1642320" y="3571920"/>
            <a:ext cx="500760" cy="357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5" name="Прямая со стрелкой 17"/>
          <p:cNvCxnSpPr/>
          <p:nvPr/>
        </p:nvCxnSpPr>
        <p:spPr>
          <a:xfrm>
            <a:off x="1785600" y="5285880"/>
            <a:ext cx="429480" cy="3582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6" name="Прямая со стрелкой 18"/>
          <p:cNvCxnSpPr/>
          <p:nvPr/>
        </p:nvCxnSpPr>
        <p:spPr>
          <a:xfrm flipH="1">
            <a:off x="1785240" y="5285160"/>
            <a:ext cx="500760" cy="3582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Lucida Sans Unicode"/>
              </a:rPr>
              <a:t>                               </a:t>
            </a:r>
            <a:r>
              <a:rPr b="1" lang="ru-RU" sz="2700" spc="-1" strike="noStrike">
                <a:solidFill>
                  <a:srgbClr val="0070c0"/>
                </a:solidFill>
                <a:latin typeface="Lucida Sans Unicode"/>
              </a:rPr>
              <a:t>- формулы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Lucida Sans Unicode"/>
              </a:rPr>
              <a:t>                                   </a:t>
            </a:r>
            <a:r>
              <a:rPr b="1" lang="ru-RU" sz="2700" spc="-1" strike="noStrike">
                <a:solidFill>
                  <a:srgbClr val="0070c0"/>
                </a:solidFill>
                <a:latin typeface="Lucida Sans Unicode"/>
              </a:rPr>
              <a:t>Крамера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208080" y="96840"/>
            <a:ext cx="8240760" cy="21225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" descr=""/>
          <p:cNvPicPr/>
          <p:nvPr/>
        </p:nvPicPr>
        <p:blipFill>
          <a:blip r:embed="rId2"/>
          <a:stretch/>
        </p:blipFill>
        <p:spPr>
          <a:xfrm>
            <a:off x="642960" y="2143080"/>
            <a:ext cx="1744560" cy="14572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5" descr=""/>
          <p:cNvPicPr/>
          <p:nvPr/>
        </p:nvPicPr>
        <p:blipFill>
          <a:blip r:embed="rId3"/>
          <a:stretch/>
        </p:blipFill>
        <p:spPr>
          <a:xfrm>
            <a:off x="2143080" y="285840"/>
            <a:ext cx="1130400" cy="619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4"/>
          <a:stretch/>
        </p:blipFill>
        <p:spPr>
          <a:xfrm>
            <a:off x="866880" y="4367160"/>
            <a:ext cx="1903320" cy="1571760"/>
          </a:xfrm>
          <a:prstGeom prst="rect">
            <a:avLst/>
          </a:prstGeom>
          <a:ln w="0">
            <a:noFill/>
          </a:ln>
        </p:spPr>
      </p:pic>
      <p:sp>
        <p:nvSpPr>
          <p:cNvPr id="405" name="Двойная стрелка влево/вверх 9"/>
          <p:cNvSpPr/>
          <p:nvPr/>
        </p:nvSpPr>
        <p:spPr>
          <a:xfrm>
            <a:off x="3071880" y="2857680"/>
            <a:ext cx="571320" cy="214308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усть задана система линейных уравнений вида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+b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y+c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z=d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+b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y+c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z=d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+b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y+c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z=d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того, чтобы решить данную систему надо вычислить </a:t>
            </a:r>
            <a:r>
              <a:rPr b="1" lang="ru-RU" sz="2700" spc="-1" strike="noStrike">
                <a:solidFill>
                  <a:srgbClr val="0070c0"/>
                </a:solidFill>
                <a:latin typeface="Lucida Sans Unicode"/>
              </a:rPr>
              <a:t>главный и вспомогательный определители третьего поряд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0252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2"/>
          <a:stretch/>
        </p:blipFill>
        <p:spPr>
          <a:xfrm>
            <a:off x="285840" y="1000080"/>
            <a:ext cx="6153120" cy="17812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7" descr=""/>
          <p:cNvPicPr/>
          <p:nvPr/>
        </p:nvPicPr>
        <p:blipFill>
          <a:blip r:embed="rId3"/>
          <a:stretch/>
        </p:blipFill>
        <p:spPr>
          <a:xfrm>
            <a:off x="1071720" y="3000240"/>
            <a:ext cx="6153120" cy="178128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9" descr=""/>
          <p:cNvPicPr/>
          <p:nvPr/>
        </p:nvPicPr>
        <p:blipFill>
          <a:blip r:embed="rId4"/>
          <a:stretch/>
        </p:blipFill>
        <p:spPr>
          <a:xfrm>
            <a:off x="2500200" y="4857840"/>
            <a:ext cx="6153120" cy="178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57120" y="50004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" descr=""/>
          <p:cNvPicPr/>
          <p:nvPr/>
        </p:nvPicPr>
        <p:blipFill>
          <a:blip r:embed="rId2"/>
          <a:stretch/>
        </p:blipFill>
        <p:spPr>
          <a:xfrm>
            <a:off x="357120" y="571680"/>
            <a:ext cx="8380440" cy="271440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9"/>
          <p:cNvSpPr/>
          <p:nvPr/>
        </p:nvSpPr>
        <p:spPr>
          <a:xfrm>
            <a:off x="1643040" y="328608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Franklin Gothic Book"/>
              </a:rPr>
              <a:t>Если     ∆≠  0, то справедливы следующие форму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" descr=""/>
          <p:cNvPicPr/>
          <p:nvPr/>
        </p:nvPicPr>
        <p:blipFill>
          <a:blip r:embed="rId3"/>
          <a:stretch/>
        </p:blipFill>
        <p:spPr>
          <a:xfrm>
            <a:off x="714240" y="4572000"/>
            <a:ext cx="1357560" cy="1133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4"/>
          <a:stretch/>
        </p:blipFill>
        <p:spPr>
          <a:xfrm>
            <a:off x="3214800" y="4500720"/>
            <a:ext cx="1384200" cy="11430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5"/>
          <a:stretch/>
        </p:blipFill>
        <p:spPr>
          <a:xfrm>
            <a:off x="5786280" y="4500720"/>
            <a:ext cx="1428840" cy="122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16:33:35Z</dcterms:created>
  <dc:creator>Марьяна</dc:creator>
  <dc:description/>
  <dc:language>en-US</dc:language>
  <cp:lastModifiedBy>Марианна</cp:lastModifiedBy>
  <dcterms:modified xsi:type="dcterms:W3CDTF">2009-05-28T06:34:51Z</dcterms:modified>
  <cp:revision>38</cp:revision>
  <dc:subject/>
  <dc:title>РЕШЕНИЕ СИСТЕМ ЛИНЕЙНЫХ  УРАВНЕНИЙ 2-го И 3-го ПОРЯДКА МЕТОДОМ КРАМЕРА</dc:title>
</cp:coreProperties>
</file>