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BB0-6A39-4CD9-A8FF-08935BA0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97C-6456-4582-801E-E066FEE3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753-C92F-4C15-AB61-AE74F95B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B8C-4E91-4B19-9F24-C631F5C4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C3CC-C0DF-46A0-8A3E-6FEB7775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3E88-E77E-4858-A8D6-BE4E6010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9E5C-244D-4FC2-AAA6-69E5B7A2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758E-FDA5-4F0E-8F42-669C619A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208E-AA46-4CC5-B9AD-E1ECBABE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1E1E-AF80-4F8C-8871-910C0300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C906-0B90-4F9C-9F04-859B58BB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518-4CDE-4A6F-A193-0C41B039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004E-78C7-4F39-9D80-821DF9B9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4929-8637-49BF-B633-E114E92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3D31-F126-40DF-9287-CB3721DF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C4F6-9399-4015-B4AD-E433EB39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711B-5558-490B-815F-A48A9502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B44-1A81-4823-BBB0-B391CEB1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BCB-DF19-4E04-BB16-AB711CDC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FA7-0FA2-41B8-9D74-49A11D5A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B99-5038-4893-9D6A-6E02C57C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E30-DCE5-4FAF-BD97-52AB9333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F4A-E772-4294-B182-4E3D7C9E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51B-0452-4669-AB0C-BFC4990B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ACB9-F01A-47F4-BEDA-749980945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82E6-EEE6-40CA-808E-F177319BF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avuch.info/methodlib/401/96560/" TargetMode="External"/><Relationship Id="rId3" Type="http://schemas.openxmlformats.org/officeDocument/2006/relationships/hyperlink" Target="http://kbrcde.ru/?Page=files&amp;act=show_file&amp;id=343" TargetMode="External"/><Relationship Id="rId4" Type="http://schemas.openxmlformats.org/officeDocument/2006/relationships/hyperlink" Target="http://kbrcde.ru/?Page=files&amp;act=show_file&amp;id=343" TargetMode="External"/><Relationship Id="rId5" Type="http://schemas.openxmlformats.org/officeDocument/2006/relationships/hyperlink" Target="http://kbrcde.ru/?Page=files&amp;act=show_file&amp;id=343" TargetMode="External"/><Relationship Id="rId6" Type="http://schemas.openxmlformats.org/officeDocument/2006/relationships/hyperlink" Target="http://kbrcde.ru/?Page=files&amp;act=show_file&amp;id=343" TargetMode="External"/><Relationship Id="rId7" Type="http://schemas.openxmlformats.org/officeDocument/2006/relationships/hyperlink" Target="http://kbrcde.ru/?Page=files&amp;act=show_file&amp;id=343" TargetMode="External"/><Relationship Id="rId8" Type="http://schemas.openxmlformats.org/officeDocument/2006/relationships/hyperlink" Target="http://kbrcde.ru/?Page=files&amp;act=show_file&amp;id=343" TargetMode="External"/><Relationship Id="rId9" Type="http://schemas.openxmlformats.org/officeDocument/2006/relationships/hyperlink" Target="http://kbrcde.ru/?Page=files&amp;act=show_file&amp;id=343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ahoma"/>
              </a:rPr>
              <a:t>Обработка двухмерных массивов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на примере метода КРАМЕРА</a:t>
            </a:r>
            <a:br>
              <a:rPr sz="4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ограммирование на Паскале в 9м классе</a:t>
            </a:r>
            <a:br>
              <a:rPr sz="24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Автор: учитель информатики МБОУ СОШ № 9 села Вольного Кошехабльского района Республики Адыгея Середа И.М.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 kramor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s crt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:array [1..3,1..3] of real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:array [1..3] of real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:array [1..3,1..3] of real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:array [0..3] of real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,j,n: integer;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x: real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rscr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 i:=1 to 3 do beg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eln('vvod yravnenij ',i)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 j:=1 to 3 do beg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eln('vvedite koeff ',j)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(a[i,j]);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c[i,j]:=a[i,j]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eln('vvedite cvobodnij koeff ',i);       read(b[i])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n:=0 to 3 do beg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i:=1 to 3 d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j:=1 to 3 do beg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n=j then c[i,j]:=b[i] else c[i,j]:=a[i,j]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[n]:=c[1,1]*c[2,2]*c[3,3]+c[2,1]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[3,2]*c[1,3]+c[1,2]*c[2,3]*c[3,1]-c[3,1]*c[2,2]*c[1,3]-      c[1,2]*c[2,1]*c[3,3]-c[3,2]*c[2,3]*c[1,1]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d;   end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f d[0]&lt;&gt;0 then begi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riteln('otvet')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 i:=1 to 3 do begi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x:=d[i]/d[0]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riteln('x',i,'=',x)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nd else writeln('sistema ne sovmestna!!!')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end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сле запуска программы вводим тестовые пример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Х1 +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Х2 +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Х3 =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Х1 +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Х2 +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Х3 =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Х1 +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Х2 +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Х3 =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чевидно, что ответ будет таким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Х1 = 1; Х2 = 1; Х3 = 1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сли ввести только одинаковые числа, то получим несовместную систем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40"/>
                            </p:stCondLst>
                            <p:childTnLst>
                              <p:par>
                                <p:cTn id="3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сле проверки работоспособности программы ее можно использовать по назначению – решать систему 3-х линейных уравнений с 3-мя неизвестными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елаю успех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пользуемая литератур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Информатика и ИКТ. 9 кла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.Д. Угринович, М.БИНОМ, 20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рограммирование на Паскале. А.А. Чернов, А.Ф. Чернов. Волгоград. «Учитель».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zavuch.info/methodlib/401/96560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kbrcde.ru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/?Page=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files&amp;act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=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show_file&amp;id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=3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300024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80880"/>
            <a:ext cx="84582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честве примера для наглядного представления о сортировках числовых двумерных массивов приведем классический пример решения СЛАУ (системы линейных алгебраических уравнений) методом Крамара. 2. В начале представим математическую модел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представьте себе систему 3х уравнений с тремя неизвестным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А1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+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В1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+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1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Z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=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D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А2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+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В2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+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2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Z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=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D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+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В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+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Z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=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D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каким способом можно решить такую систему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438280"/>
            <a:ext cx="304560" cy="198144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ожно методом подстановки, методом приведения к треугольному виду, метолом Гаусса. И все? Для компьютера приемлем метод Крамера, метод деления определителей (детерминантов) – что это за метод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2743200" cy="264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19320" y="4419720"/>
                <a:ext cx="289548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82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82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28188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начала запишем нашу систему в другом виде и выделим из нее матрицу (еще одно новое понятие) элементов при неизвестных и матрицу столбца свободных элемент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11*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X1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+A12*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X2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+A13*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X3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=B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21*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X1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+A22*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X2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+A23*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X3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=B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31*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X1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+A32*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X2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+A33*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X3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=B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11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2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21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2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31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2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3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876920"/>
            <a:ext cx="152280" cy="1447560"/>
          </a:xfrm>
          <a:custGeom>
            <a:avLst/>
            <a:gdLst>
              <a:gd name="textAreaLeft" fmla="*/ 44640 w 152280"/>
              <a:gd name="textAreaRight" fmla="*/ 152640 w 152280"/>
              <a:gd name="textAreaTop" fmla="*/ 60120 h 1447560"/>
              <a:gd name="textAreaBottom" fmla="*/ 138744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400080" y="4800600"/>
            <a:ext cx="152280" cy="1447920"/>
          </a:xfrm>
          <a:custGeom>
            <a:avLst/>
            <a:gdLst>
              <a:gd name="textAreaLeft" fmla="*/ 44280 w 152280"/>
              <a:gd name="textAreaRight" fmla="*/ 152280 w 15228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4800600"/>
            <a:ext cx="152280" cy="1523880"/>
          </a:xfrm>
          <a:custGeom>
            <a:avLst/>
            <a:gdLst>
              <a:gd name="textAreaLeft" fmla="*/ 44640 w 152280"/>
              <a:gd name="textAreaRight" fmla="*/ 152640 w 15228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267080" y="4800600"/>
            <a:ext cx="152640" cy="1447920"/>
          </a:xfrm>
          <a:custGeom>
            <a:avLst/>
            <a:gdLst>
              <a:gd name="textAreaLeft" fmla="*/ 45000 w 152640"/>
              <a:gd name="textAreaRight" fmla="*/ 153360 w 15264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124080"/>
            <a:ext cx="304560" cy="152424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 Крамара основан на создании основного определителя и определителей, полученных путем подмены соответствующего столбца матрицы столбцом свободных элемент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35964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счет любого определителя 3-го порядка проводится по соответствующей формул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4800600" cy="2471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28600" y="5105520"/>
            <a:ext cx="85345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91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92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07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дставим описание алгоритма для решения данной задачи. Создадим массивы размерностью 3х3 А - для исходной матрицы, С- для расчетной матрицы, размерностью 1х3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 -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ля свободных элементов и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 –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ля определителе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429840"/>
            <a:ext cx="8686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двойном вложенном цикле вводим построчно коэффициенты А и В. В тройном цикле производится расчет основного и подстановочных определителей. После проверки определителя на не равенство 0 производится вывод результата по формуле Крамера, в противном случае система будет несовмест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org</cp:lastModifiedBy>
  <dcterms:modified xsi:type="dcterms:W3CDTF">2013-11-14T18:22:2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